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chimes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F84C-676A-4797-BC19-075B4AAFA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5CA3-3155-4A41-9ADB-9DC3DFE7B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6F22-B7DA-4E8D-8BB9-7ED8182C8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EB9F-3B02-489C-BC5B-D68C454A3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8C5B-CC91-48BE-AF8D-EDEAE12D5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C0D3-4050-4B07-BDC1-C1E5827EA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805D-CA95-4103-8268-EF2EC6EBF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5BAA-0140-4547-A632-6FA595251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5C5F-03FB-4BDC-8B24-4DD91B088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653C-6234-49E3-95A5-84880B4E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FE73-D7E7-40F8-864F-243D3419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EAC4-3834-44E4-8C81-828F10C7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7D98D-BE17-4D04-BB4B-E068A126D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Solve%20Using%20Addition%20or%20Subtraction.notebook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olving Algebraic Equations with Addition and Subtr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52480" y="5943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linda Or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1280" y="3048120"/>
            <a:ext cx="1371600" cy="21333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order to solve an algebraic equation, you have to isolate the variable.  (Get the letters on one side and the numbers on the othe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2819520" y="3200400"/>
                <a:ext cx="388620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380880" y="3276720"/>
            <a:ext cx="2210040" cy="173988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need to get rid of the 5 by doing the opposite function of + which is sub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57600" y="396252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</a:rPr>
              <a:t>- 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53080" y="304812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</a:rPr>
              <a:t>- 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867280" y="4114800"/>
            <a:ext cx="2667240" cy="119124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ember to keep it balanced by doing the same to both sides of the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33920" y="3200400"/>
            <a:ext cx="1143000" cy="9144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57600" y="4114800"/>
            <a:ext cx="1143000" cy="9144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5410080"/>
            <a:ext cx="1447560" cy="36828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’s canc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6248520"/>
            <a:ext cx="2286000" cy="36828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write and so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3429000" y="5562720"/>
                <a:ext cx="259092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629400" y="52578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05320" y="1219320"/>
            <a:ext cx="1447560" cy="21333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2666880" y="1371600"/>
                <a:ext cx="36576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380880" y="2362320"/>
            <a:ext cx="2514600" cy="91692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 the opposite function.  What is the opposite of  - 3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057400"/>
            <a:ext cx="1905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+ 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248520" y="1295280"/>
            <a:ext cx="1904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+ 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15000" y="2514600"/>
            <a:ext cx="2362320" cy="6426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ember to keep it balanc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4572000"/>
            <a:ext cx="1676520" cy="6426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write and so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3048120" y="4114800"/>
                <a:ext cx="270828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477120" y="335268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85800" y="3733920"/>
            <a:ext cx="1447920" cy="36828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’s can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81280" y="1447920"/>
            <a:ext cx="1219320" cy="838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81280" y="2209680"/>
            <a:ext cx="1219320" cy="838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w Try These.  Make sure you show all your work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57600" cy="50292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+ 12 = 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 + 1 = 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 + 78 = 1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+ 23 = 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 + x = 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 – 2 = 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 + 9 = 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 – 8 =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 + p = 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19720" y="6019920"/>
            <a:ext cx="1295280" cy="45972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heck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00:00:05Z</dcterms:created>
  <dc:creator>admin</dc:creator>
  <dc:description/>
  <dc:language>en-US</dc:language>
  <cp:lastModifiedBy>admin</cp:lastModifiedBy>
  <dcterms:modified xsi:type="dcterms:W3CDTF">2008-03-11T00:59:04Z</dcterms:modified>
  <cp:revision>2</cp:revision>
  <dc:subject/>
  <dc:title>Solving Algebraic Equations with Addition and Subtraction</dc:title>
</cp:coreProperties>
</file>